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271F-6863-4CF3-9314-A0FC6327D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F4EE-49C5-4BFE-9F6F-04517F5ED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3833-4071-4998-8837-FB762DAD3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AFBD-BAC6-46A2-A265-65EF7067A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C34B1-6384-4B24-AD33-3D286981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EBD91-C8EB-4A31-96E8-2CCD7D3E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980D3-025D-47D4-A702-6D646168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0BA3A-4DB4-4AE8-938E-7C5C90F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F9E7F-D4C0-4F40-9D3A-94370618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0A05D-3AE7-492D-97D2-D8513D1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D448C-9FA9-48FD-A288-CAE81E9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0995-4E11-480F-A605-C03B6C02A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FC7E-D7B8-4C6E-89A7-ABE2607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1DCB6-9E0A-4BCC-ABA4-AA53165E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B2F1F-3517-4C7A-85AB-79832F20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5794C-F8C3-4C67-856B-F2036C4A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D672C-8F12-42E9-9DCF-6FA8A91C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24D8-E849-4569-92D4-EFF74B20F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2419-EB18-4C74-87E4-D705E3E87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C73B-65DE-4220-9A1A-488988B5F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054C-FEE2-4D9A-9EE3-77363EE90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5DC6-FC72-40AB-822F-017A2A8E4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FF02-7F76-4658-8B1C-AA2108AAD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68E1-D19E-4CF3-B064-A03524FCB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BEB6A5-C502-441C-89A1-932E98CDBCC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2A266-9237-4981-BF8D-41C88C15F93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bc.co.uk/news/technology-17152225" TargetMode="External"/><Relationship Id="rId3" Type="http://schemas.openxmlformats.org/officeDocument/2006/relationships/hyperlink" Target="http://blogs.wsj.com/tech-europe/2012/02/27/apples-push-email-service-disabled-in-germany/" TargetMode="External"/><Relationship Id="rId4" Type="http://schemas.openxmlformats.org/officeDocument/2006/relationships/hyperlink" Target="http://www.reuters.com/article/2012/04/13/net-us-apple-motorola-idUSBRE83C0YL20120413" TargetMode="External"/><Relationship Id="rId5" Type="http://schemas.openxmlformats.org/officeDocument/2006/relationships/hyperlink" Target="http://reefersmoke.com/2012/08/teens-busted-when-pictures-found-of-them-smoking-cannabis/" TargetMode="External"/><Relationship Id="rId6" Type="http://schemas.openxmlformats.org/officeDocument/2006/relationships/hyperlink" Target="http://www.engadget.com/2012/02/24/icloud-and-mobileme-email-down-in-germany/" TargetMode="External"/><Relationship Id="rId7" Type="http://schemas.openxmlformats.org/officeDocument/2006/relationships/hyperlink" Target="http://www.guardian.co.uk/technology/2012/feb/24/apple-iphone-email-germany" TargetMode="External"/><Relationship Id="rId8" Type="http://schemas.openxmlformats.org/officeDocument/2006/relationships/hyperlink" Target="http://reefersmoke.com/2012/08/teens-busted-when-pictures-found-of-them-smoking-cannabis/" TargetMode="Externa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Emai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Rodrig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iAnsw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states that users should reconfigure their devices or simply not check their email in German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is in this dilemma because they were using another company’s technology to advertise their produc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Bibliograp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www.bbc.co.uk/news/technology-171522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http://blogs.wsj.com/tech-europe/2012/02/27/apples-push-email-service-disabled-in-germany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4"/>
              </a:rPr>
              <a:t>http://www.reuters.com/article/2012/04/13/net-us-apple-motorola-idUSBRE83C0YL2012041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5"/>
              </a:rPr>
              <a:t>http://reefersmoke.com/2012/08/teens-busted-when-pictures-found-of-them-smoking-cannabis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6"/>
              </a:rPr>
              <a:t>http://www.engadget.com/2012/02/24/icloud-and-mobileme-email-down-in-germany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7"/>
              </a:rPr>
              <a:t>http://www.guardian.co.uk/technology/2012/feb/24/apple-iphone-email-german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8"/>
              </a:rPr>
              <a:t>http://reefersmoke.com/2012/08/teens-busted-when-pictures-found-of-them-smoking-cannabis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The iphone and ipad can be set to check for new mail at set intervals or until mail is released from the devi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Ne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The device will no longer check for mail at set intervals or when mail is released, even though other services in Germany such as Microsoft will still perform this tas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’s Opin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believes that Motorola Mobility’s patent is invalid and is appealing the decision.” -Ap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’s S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encourages for Mobileme and iCloud users to reconfigure their ipad or ipho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Solution cont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also suggests that Mobileme users create an iCloud account or simply not check their email in German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8321760" y="-2700360"/>
            <a:ext cx="90075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also suggests that Mobileme users create an iCloud account or simply not check their email in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90840" y="3429000"/>
            <a:ext cx="43815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’s Deci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Due to this service removal Apple has decided to remove products from German st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Dilemm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The court of Manheim confirmed a ruling that Apple owes Motorola for using a patented technology to inform Apple customers of new produc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iQui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What is Apple’s solution to the problem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Why is Apple in this dilemma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2:13:56Z</dcterms:created>
  <dc:creator>SCSadmin</dc:creator>
  <dc:description/>
  <dc:language>en-US</dc:language>
  <cp:lastModifiedBy>SCSadmin</cp:lastModifiedBy>
  <dcterms:modified xsi:type="dcterms:W3CDTF">2012-08-23T17:01:32Z</dcterms:modified>
  <cp:revision>4</cp:revision>
  <dc:subject/>
  <dc:title>Apple Email</dc:title>
</cp:coreProperties>
</file>